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31.wmf" ContentType="image/x-wmf"/>
  <Override PartName="/ppt/media/image22.jpeg" ContentType="image/jpeg"/>
  <Override PartName="/ppt/media/image9.png" ContentType="image/png"/>
  <Override PartName="/ppt/media/image36.jpeg" ContentType="image/jpe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411-E414-42A8-9A54-07D66923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4D1-6913-4685-9FAA-DBB15B51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597-1FF5-4BFD-9CCE-E38FAF0F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C31-1B0B-4C88-9B52-568AC7F6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D16F-E2AA-4E55-890E-CCB525A5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6F48-27B1-4B1B-B573-24069EB0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2480-2575-419E-9F9E-A59377F4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2C22-D981-4CA2-8991-00704E1D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8F4C-0D28-40D0-99E3-244FF50A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4461-3058-42DF-AF21-6DFA5840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9B65-3F9E-48C7-ADA5-B856BD5E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C81-0FBA-4A67-BC9B-573220AF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8C69-7EDE-40DA-9514-F72E1403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3C7D-7341-4659-8F61-F3D4EAFC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3822-9D65-45B6-8BED-D00B1087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967B-050B-4DBD-84BC-85B16038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59D5-84D6-40A6-A153-3CA2DFEC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A52-773D-4303-A1CD-7F2E82EF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F0D-1EA9-4AE7-977C-7BAD7FE7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216-32C2-42E6-BAE7-5337D852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09B-7FCD-4DC7-B9E3-F67FE092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2B2-7F08-46E0-A379-383CEAB5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D15-C26E-4DC5-86DF-D822542E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F50-14D3-464F-9371-FE352052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4114-D0F1-473A-9F65-81F70E7139C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DE61-EC41-44BB-8A6F-24147D02907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3.jpe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6.jpeg"/><Relationship Id="rId3" Type="http://schemas.openxmlformats.org/officeDocument/2006/relationships/image" Target="../media/image11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353880" y="901800"/>
            <a:ext cx="8259840" cy="3736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94920" y="4696920"/>
            <a:ext cx="5977080" cy="1589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оект выполнил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Учащиеся 8 «А»  2015/2016 учебный год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уководитель проект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/Сиволап Н.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7" name="Группа 10"/>
          <p:cNvGrpSpPr/>
          <p:nvPr/>
        </p:nvGrpSpPr>
        <p:grpSpPr>
          <a:xfrm>
            <a:off x="4573080" y="2997720"/>
            <a:ext cx="4333680" cy="3859560"/>
            <a:chOff x="4573080" y="2997720"/>
            <a:chExt cx="4333680" cy="3859560"/>
          </a:xfrm>
        </p:grpSpPr>
        <p:pic>
          <p:nvPicPr>
            <p:cNvPr id="98" name="Рисунок 6" descr="butterflies-bflies_040.png"/>
            <p:cNvPicPr/>
            <p:nvPr/>
          </p:nvPicPr>
          <p:blipFill>
            <a:blip r:embed="rId2"/>
            <a:stretch/>
          </p:blipFill>
          <p:spPr>
            <a:xfrm rot="2953200">
              <a:off x="6606360" y="3508560"/>
              <a:ext cx="2066400" cy="15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Рисунок 7" descr="butterflies-bflies_040.png"/>
            <p:cNvPicPr/>
            <p:nvPr/>
          </p:nvPicPr>
          <p:blipFill>
            <a:blip r:embed="rId3"/>
            <a:stretch/>
          </p:blipFill>
          <p:spPr>
            <a:xfrm rot="3066000">
              <a:off x="5594040" y="4797720"/>
              <a:ext cx="1451880" cy="109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Рисунок 8" descr="butterflies-bflies_040.png"/>
            <p:cNvPicPr/>
            <p:nvPr/>
          </p:nvPicPr>
          <p:blipFill>
            <a:blip r:embed="rId4"/>
            <a:stretch/>
          </p:blipFill>
          <p:spPr>
            <a:xfrm rot="3265200">
              <a:off x="4680000" y="5767200"/>
              <a:ext cx="1084320" cy="82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Зачем используют </a:t>
            </a:r>
            <a:br>
              <a:rPr sz="4500"/>
            </a:b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симметрию в технике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564000" y="1773360"/>
            <a:ext cx="5122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 технике красота, соразмерность механизмов часто бывает связана с их надежностью, устойчивостью в работе. Симметричная форма самолета, подводной лодки, автомобиля обеспечивает хорошую обтекаемость воздухом или водой, а значит, и минимальное сопротивление движени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0" name="Picture 4" descr="i?id=6654700&amp;tov=5"/>
          <p:cNvPicPr/>
          <p:nvPr/>
        </p:nvPicPr>
        <p:blipFill>
          <a:blip r:embed="rId1"/>
          <a:stretch/>
        </p:blipFill>
        <p:spPr>
          <a:xfrm>
            <a:off x="324000" y="1785960"/>
            <a:ext cx="2879640" cy="2506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i?id=21068726&amp;tov=8"/>
          <p:cNvPicPr/>
          <p:nvPr/>
        </p:nvPicPr>
        <p:blipFill>
          <a:blip r:embed="rId2"/>
          <a:stretch/>
        </p:blipFill>
        <p:spPr>
          <a:xfrm>
            <a:off x="324000" y="4508640"/>
            <a:ext cx="2808000" cy="20890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2" descr="butterflies-bflies_040.png"/>
          <p:cNvPicPr/>
          <p:nvPr/>
        </p:nvPicPr>
        <p:blipFill>
          <a:blip r:embed="rId3"/>
          <a:stretch/>
        </p:blipFill>
        <p:spPr>
          <a:xfrm rot="2953200">
            <a:off x="7186320" y="439920"/>
            <a:ext cx="1778040" cy="13460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3" descr="butterflies-bflies_040.png"/>
          <p:cNvPicPr/>
          <p:nvPr/>
        </p:nvPicPr>
        <p:blipFill>
          <a:blip r:embed="rId4"/>
          <a:stretch/>
        </p:blipFill>
        <p:spPr>
          <a:xfrm rot="19517400">
            <a:off x="158760" y="460440"/>
            <a:ext cx="1249200" cy="9460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4" descr="butterflies-bflies_040.png"/>
          <p:cNvPicPr/>
          <p:nvPr/>
        </p:nvPicPr>
        <p:blipFill>
          <a:blip r:embed="rId5"/>
          <a:stretch/>
        </p:blipFill>
        <p:spPr>
          <a:xfrm rot="3265200">
            <a:off x="8118360" y="6109920"/>
            <a:ext cx="933120" cy="704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имметрия в архитектур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6" name="Picture 5" descr="Большой театр"/>
          <p:cNvPicPr/>
          <p:nvPr/>
        </p:nvPicPr>
        <p:blipFill>
          <a:blip r:embed="rId1"/>
          <a:stretch/>
        </p:blipFill>
        <p:spPr>
          <a:xfrm>
            <a:off x="250920" y="1268280"/>
            <a:ext cx="2881080" cy="244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Церковь Иоанна Предтечи"/>
          <p:cNvPicPr/>
          <p:nvPr/>
        </p:nvPicPr>
        <p:blipFill>
          <a:blip r:embed="rId2"/>
          <a:stretch/>
        </p:blipFill>
        <p:spPr>
          <a:xfrm>
            <a:off x="5724360" y="3429000"/>
            <a:ext cx="3024360" cy="3240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i?id=28309425&amp;tov=4"/>
          <p:cNvPicPr/>
          <p:nvPr/>
        </p:nvPicPr>
        <p:blipFill>
          <a:blip r:embed="rId3"/>
          <a:stretch/>
        </p:blipFill>
        <p:spPr>
          <a:xfrm>
            <a:off x="395280" y="4005360"/>
            <a:ext cx="2376360" cy="26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j0157763"/>
          <p:cNvPicPr/>
          <p:nvPr/>
        </p:nvPicPr>
        <p:blipFill>
          <a:blip r:embed="rId4"/>
          <a:stretch/>
        </p:blipFill>
        <p:spPr>
          <a:xfrm>
            <a:off x="3203640" y="3357720"/>
            <a:ext cx="2448000" cy="2232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8"/>
          <p:cNvSpPr/>
          <p:nvPr/>
        </p:nvSpPr>
        <p:spPr>
          <a:xfrm>
            <a:off x="2987640" y="1413000"/>
            <a:ext cx="58341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екрасные образцы симметрии демонстрируют произведения архитектуры. Большинство зданий: дворцы, колокольни, сторожевые башни, колонны, внутренние опорные столбы - зеркально симметрич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0" descr="butterflies-bflies_040.png"/>
          <p:cNvPicPr/>
          <p:nvPr/>
        </p:nvPicPr>
        <p:blipFill>
          <a:blip r:embed="rId5"/>
          <a:stretch/>
        </p:blipFill>
        <p:spPr>
          <a:xfrm rot="2953200">
            <a:off x="7839360" y="289440"/>
            <a:ext cx="1171440" cy="8874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1" descr="butterflies-bflies_040.png"/>
          <p:cNvPicPr/>
          <p:nvPr/>
        </p:nvPicPr>
        <p:blipFill>
          <a:blip r:embed="rId6"/>
          <a:stretch/>
        </p:blipFill>
        <p:spPr>
          <a:xfrm rot="19517400">
            <a:off x="112680" y="375840"/>
            <a:ext cx="1065240" cy="80496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2" descr="butterflies-bflies_040.png"/>
          <p:cNvPicPr/>
          <p:nvPr/>
        </p:nvPicPr>
        <p:blipFill>
          <a:blip r:embed="rId7"/>
          <a:stretch/>
        </p:blipFill>
        <p:spPr>
          <a:xfrm rot="3265200">
            <a:off x="3641400" y="6057720"/>
            <a:ext cx="795240" cy="601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</a:rPr>
              <a:t>Симметрия в литератур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 литературных произведениях слова палиндромы: </a:t>
            </a:r>
            <a:r>
              <a:rPr b="0" lang="ru-RU" sz="2400" spc="-1" strike="noStrike">
                <a:solidFill>
                  <a:srgbClr val="9933ff"/>
                </a:solidFill>
                <a:latin typeface="Times New Roman"/>
              </a:rPr>
              <a:t>«топот», «казак», «шалаш»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обладают свойством зеркальной симметр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эзию отличает от прозы симметричность слогов, строк, ударных и безударных звуков. Отрывок из стихотворения А. Фет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Какая грусть! Конец алл</a:t>
            </a:r>
            <a:r>
              <a:rPr b="1" lang="ru-RU" sz="2400" spc="-1" strike="noStrike" u="sng">
                <a:solidFill>
                  <a:srgbClr val="9933ff"/>
                </a:solidFill>
                <a:uFillTx/>
                <a:latin typeface="Times New Roman"/>
              </a:rPr>
              <a:t>еи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пять с утра исчез в пы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ли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,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пять серебряные зм</a:t>
            </a:r>
            <a:r>
              <a:rPr b="1" lang="ru-RU" sz="2400" spc="-1" strike="noStrike" u="sng">
                <a:solidFill>
                  <a:srgbClr val="9933ff"/>
                </a:solidFill>
                <a:uFillTx/>
                <a:latin typeface="Times New Roman"/>
              </a:rPr>
              <a:t>еи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Через сугробы пополз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ли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.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Здесь имеется элемент повторяемости - это симметрия. Этот стихотворный элемент называют ямб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76" name="Группа 5"/>
          <p:cNvGrpSpPr/>
          <p:nvPr/>
        </p:nvGrpSpPr>
        <p:grpSpPr>
          <a:xfrm>
            <a:off x="-23040" y="39240"/>
            <a:ext cx="9165960" cy="6818040"/>
            <a:chOff x="-23040" y="39240"/>
            <a:chExt cx="9165960" cy="6818040"/>
          </a:xfrm>
        </p:grpSpPr>
        <p:pic>
          <p:nvPicPr>
            <p:cNvPr id="177" name="Рисунок 7" descr="butterflies-bflies_040.png"/>
            <p:cNvPicPr/>
            <p:nvPr/>
          </p:nvPicPr>
          <p:blipFill>
            <a:blip r:embed="rId1"/>
            <a:stretch/>
          </p:blipFill>
          <p:spPr>
            <a:xfrm rot="19517400">
              <a:off x="134640" y="310680"/>
              <a:ext cx="124992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Рисунок 8" descr="butterflies-bflies_040.png"/>
            <p:cNvPicPr/>
            <p:nvPr/>
          </p:nvPicPr>
          <p:blipFill>
            <a:blip r:embed="rId2"/>
            <a:stretch/>
          </p:blipFill>
          <p:spPr>
            <a:xfrm rot="3265200">
              <a:off x="8117640" y="5919480"/>
              <a:ext cx="933120" cy="705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очему природа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оздаёт симметрию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664000" y="2288880"/>
            <a:ext cx="6480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Природа устроена в соответствии с законами симметрии. Следовательно, симметрия возникла не случайно – возможно, симметричные объекты легче воспринимать живым существам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1" name="Picture 6" descr="i?id=43036917&amp;tov=7"/>
          <p:cNvPicPr/>
          <p:nvPr/>
        </p:nvPicPr>
        <p:blipFill>
          <a:blip r:embed="rId1"/>
          <a:stretch/>
        </p:blipFill>
        <p:spPr>
          <a:xfrm>
            <a:off x="971640" y="1700280"/>
            <a:ext cx="2200320" cy="2303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i?id=15871788&amp;tov=6"/>
          <p:cNvPicPr/>
          <p:nvPr/>
        </p:nvPicPr>
        <p:blipFill>
          <a:blip r:embed="rId2"/>
          <a:stretch/>
        </p:blipFill>
        <p:spPr>
          <a:xfrm>
            <a:off x="179280" y="4221000"/>
            <a:ext cx="2376720" cy="212256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7"/>
          <p:cNvGrpSpPr/>
          <p:nvPr/>
        </p:nvGrpSpPr>
        <p:grpSpPr>
          <a:xfrm>
            <a:off x="720" y="360"/>
            <a:ext cx="9142920" cy="6856920"/>
            <a:chOff x="720" y="360"/>
            <a:chExt cx="9142920" cy="6856920"/>
          </a:xfrm>
        </p:grpSpPr>
        <p:pic>
          <p:nvPicPr>
            <p:cNvPr id="184" name="Рисунок 8" descr="butterflies-bflies_040.png"/>
            <p:cNvPicPr/>
            <p:nvPr/>
          </p:nvPicPr>
          <p:blipFill>
            <a:blip r:embed="rId3"/>
            <a:stretch/>
          </p:blipFill>
          <p:spPr>
            <a:xfrm rot="2953200">
              <a:off x="7164000" y="440280"/>
              <a:ext cx="1778400" cy="13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Рисунок 9" descr="butterflies-bflies_040.png"/>
            <p:cNvPicPr/>
            <p:nvPr/>
          </p:nvPicPr>
          <p:blipFill>
            <a:blip r:embed="rId4"/>
            <a:stretch/>
          </p:blipFill>
          <p:spPr>
            <a:xfrm rot="19517400">
              <a:off x="158400" y="271800"/>
              <a:ext cx="124956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Рисунок 10" descr="butterflies-bflies_040.png"/>
            <p:cNvPicPr/>
            <p:nvPr/>
          </p:nvPicPr>
          <p:blipFill>
            <a:blip r:embed="rId5"/>
            <a:stretch/>
          </p:blipFill>
          <p:spPr>
            <a:xfrm rot="3265200">
              <a:off x="8117640" y="5919480"/>
              <a:ext cx="933120" cy="705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</a:rPr>
              <a:t>Зачем человеку надо </a:t>
            </a:r>
            <a:br>
              <a:rPr sz="4500"/>
            </a:br>
            <a:r>
              <a:rPr b="0" lang="ru-RU" sz="4500" spc="-1" strike="noStrike">
                <a:solidFill>
                  <a:srgbClr val="ff0000"/>
                </a:solidFill>
                <a:latin typeface="Times New Roman"/>
              </a:rPr>
              <a:t>знать о симметрии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206064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</a:rPr>
              <a:t>Знания о симметрии человеку можно применять в своей деятельности: в строительстве, в создании предметов быта, в украшении  одежды, в оформлении интерьера жилищ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9" name="Picture 4" descr="Большой театр"/>
          <p:cNvPicPr/>
          <p:nvPr/>
        </p:nvPicPr>
        <p:blipFill>
          <a:blip r:embed="rId1"/>
          <a:stretch/>
        </p:blipFill>
        <p:spPr>
          <a:xfrm>
            <a:off x="4211640" y="4221000"/>
            <a:ext cx="2881440" cy="244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i?id=12982637&amp;tov=0"/>
          <p:cNvPicPr/>
          <p:nvPr/>
        </p:nvPicPr>
        <p:blipFill>
          <a:blip r:embed="rId2"/>
          <a:stretch/>
        </p:blipFill>
        <p:spPr>
          <a:xfrm>
            <a:off x="5940360" y="2133720"/>
            <a:ext cx="2881440" cy="2290680"/>
          </a:xfrm>
          <a:prstGeom prst="rect">
            <a:avLst/>
          </a:prstGeom>
          <a:ln w="0">
            <a:noFill/>
          </a:ln>
        </p:spPr>
      </p:pic>
      <p:grpSp>
        <p:nvGrpSpPr>
          <p:cNvPr id="191" name="Группа 7"/>
          <p:cNvGrpSpPr/>
          <p:nvPr/>
        </p:nvGrpSpPr>
        <p:grpSpPr>
          <a:xfrm>
            <a:off x="-23040" y="360"/>
            <a:ext cx="9166320" cy="6856920"/>
            <a:chOff x="-23040" y="360"/>
            <a:chExt cx="9166320" cy="6856920"/>
          </a:xfrm>
        </p:grpSpPr>
        <p:pic>
          <p:nvPicPr>
            <p:cNvPr id="192" name="Рисунок 8" descr="butterflies-bflies_040.png"/>
            <p:cNvPicPr/>
            <p:nvPr/>
          </p:nvPicPr>
          <p:blipFill>
            <a:blip r:embed="rId3"/>
            <a:stretch/>
          </p:blipFill>
          <p:spPr>
            <a:xfrm rot="2953200">
              <a:off x="7163640" y="440280"/>
              <a:ext cx="1778400" cy="13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Рисунок 9" descr="butterflies-bflies_040.png"/>
            <p:cNvPicPr/>
            <p:nvPr/>
          </p:nvPicPr>
          <p:blipFill>
            <a:blip r:embed="rId4"/>
            <a:stretch/>
          </p:blipFill>
          <p:spPr>
            <a:xfrm rot="19517400">
              <a:off x="134640" y="310320"/>
              <a:ext cx="124992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Рисунок 10" descr="butterflies-bflies_040.png"/>
            <p:cNvPicPr/>
            <p:nvPr/>
          </p:nvPicPr>
          <p:blipFill>
            <a:blip r:embed="rId5"/>
            <a:stretch/>
          </p:blipFill>
          <p:spPr>
            <a:xfrm rot="3265200">
              <a:off x="8117640" y="5919480"/>
              <a:ext cx="933120" cy="705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о всём ли проявляется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имметр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8920" y="1052640"/>
            <a:ext cx="842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66"/>
                </a:solidFill>
                <a:latin typeface="Times New Roman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Мир не может  быть абсолютно симметричным. Строители современных  мостов, высотных зданий знают, что  конструкция не должна быть безупречно симметричной из-за опасности возникновения резонансных колебаний, которые могут привести к ее разрушению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Некоторые отклонения от симметрии имеются и в живой природе. Об этом говорил известный художник О. Ренуар: "Два глаза, даже на самом красивом лице, всегда чуть-чуть различны, нос никогда не находится в точности над серединой рта; долька апельсина, листья на деревьях, лепестки цветка никогда не бывают в точности одинаковыми".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Группа 5"/>
          <p:cNvGrpSpPr/>
          <p:nvPr/>
        </p:nvGrpSpPr>
        <p:grpSpPr>
          <a:xfrm>
            <a:off x="-23040" y="-360"/>
            <a:ext cx="9165960" cy="6857640"/>
            <a:chOff x="-23040" y="-360"/>
            <a:chExt cx="9165960" cy="6857640"/>
          </a:xfrm>
        </p:grpSpPr>
        <p:pic>
          <p:nvPicPr>
            <p:cNvPr id="198" name="Рисунок 6" descr="butterflies-bflies_040.png"/>
            <p:cNvPicPr/>
            <p:nvPr/>
          </p:nvPicPr>
          <p:blipFill>
            <a:blip r:embed="rId1"/>
            <a:stretch/>
          </p:blipFill>
          <p:spPr>
            <a:xfrm rot="2953200">
              <a:off x="7328520" y="350640"/>
              <a:ext cx="141948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Рисунок 7" descr="butterflies-bflies_040.png"/>
            <p:cNvPicPr/>
            <p:nvPr/>
          </p:nvPicPr>
          <p:blipFill>
            <a:blip r:embed="rId2"/>
            <a:stretch/>
          </p:blipFill>
          <p:spPr>
            <a:xfrm rot="19517400">
              <a:off x="135000" y="309240"/>
              <a:ext cx="1249920" cy="94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Рисунок 8" descr="butterflies-bflies_040.png"/>
            <p:cNvPicPr/>
            <p:nvPr/>
          </p:nvPicPr>
          <p:blipFill>
            <a:blip r:embed="rId3"/>
            <a:stretch/>
          </p:blipFill>
          <p:spPr>
            <a:xfrm rot="3265200">
              <a:off x="8117640" y="5919480"/>
              <a:ext cx="933120" cy="705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2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4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ВЫВОД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1128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В работе «Во всём ли в жизни есть симметрия» определены основные закономерности симметрии в природе. Через  понятие «симметрия» раскрыты важнейшие связи явлений симметрии с живой природой, искусством, техникой. Показана прямая  зависимость симметрии с окружающим миром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Выявлено, что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ир не может  быть абсолютно симметричны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3" name="Группа 5"/>
          <p:cNvGrpSpPr/>
          <p:nvPr/>
        </p:nvGrpSpPr>
        <p:grpSpPr>
          <a:xfrm>
            <a:off x="-23040" y="39240"/>
            <a:ext cx="9165960" cy="7040520"/>
            <a:chOff x="-23040" y="39240"/>
            <a:chExt cx="9165960" cy="7040520"/>
          </a:xfrm>
        </p:grpSpPr>
        <p:pic>
          <p:nvPicPr>
            <p:cNvPr id="204" name="Рисунок 6" descr="butterflies-bflies_040.png"/>
            <p:cNvPicPr/>
            <p:nvPr/>
          </p:nvPicPr>
          <p:blipFill>
            <a:blip r:embed="rId1"/>
            <a:stretch/>
          </p:blipFill>
          <p:spPr>
            <a:xfrm rot="2953200">
              <a:off x="172800" y="5537160"/>
              <a:ext cx="1536120" cy="11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Рисунок 7" descr="butterflies-bflies_040.png"/>
            <p:cNvPicPr/>
            <p:nvPr/>
          </p:nvPicPr>
          <p:blipFill>
            <a:blip r:embed="rId2"/>
            <a:stretch/>
          </p:blipFill>
          <p:spPr>
            <a:xfrm rot="19517400">
              <a:off x="134640" y="310680"/>
              <a:ext cx="124992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Рисунок 8" descr="butterflies-bflies_040.png"/>
            <p:cNvPicPr/>
            <p:nvPr/>
          </p:nvPicPr>
          <p:blipFill>
            <a:blip r:embed="rId3"/>
            <a:stretch/>
          </p:blipFill>
          <p:spPr>
            <a:xfrm rot="3265200">
              <a:off x="8117640" y="5919840"/>
              <a:ext cx="933120" cy="705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77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2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4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6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9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9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Гипотеза: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6000"/>
            </a:br>
            <a:r>
              <a:rPr b="0" lang="ru-RU" sz="5900" spc="-1" strike="noStrike">
                <a:solidFill>
                  <a:srgbClr val="04617b"/>
                </a:solidFill>
                <a:latin typeface="Calibri"/>
              </a:rPr>
              <a:t>"Во всём ли в жизни есть симметрия?"</a:t>
            </a:r>
            <a:br>
              <a:rPr sz="4900"/>
            </a:b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02" name="Группа 3"/>
          <p:cNvGrpSpPr/>
          <p:nvPr/>
        </p:nvGrpSpPr>
        <p:grpSpPr>
          <a:xfrm>
            <a:off x="5374080" y="3492720"/>
            <a:ext cx="3730320" cy="3323160"/>
            <a:chOff x="5374080" y="3492720"/>
            <a:chExt cx="3730320" cy="3323160"/>
          </a:xfrm>
        </p:grpSpPr>
        <p:pic>
          <p:nvPicPr>
            <p:cNvPr id="103" name="Рисунок 4" descr="butterflies-bflies_040.png"/>
            <p:cNvPicPr/>
            <p:nvPr/>
          </p:nvPicPr>
          <p:blipFill>
            <a:blip r:embed="rId1"/>
            <a:stretch/>
          </p:blipFill>
          <p:spPr>
            <a:xfrm rot="2953200">
              <a:off x="7123680" y="3933000"/>
              <a:ext cx="177948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Рисунок 5" descr="butterflies-bflies_040.png"/>
            <p:cNvPicPr/>
            <p:nvPr/>
          </p:nvPicPr>
          <p:blipFill>
            <a:blip r:embed="rId2"/>
            <a:stretch/>
          </p:blipFill>
          <p:spPr>
            <a:xfrm rot="3066000">
              <a:off x="6252480" y="5043240"/>
              <a:ext cx="1250640" cy="94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Рисунок 6" descr="butterflies-bflies_040.png"/>
            <p:cNvPicPr/>
            <p:nvPr/>
          </p:nvPicPr>
          <p:blipFill>
            <a:blip r:embed="rId3"/>
            <a:stretch/>
          </p:blipFill>
          <p:spPr>
            <a:xfrm rot="3265200">
              <a:off x="5465880" y="5877360"/>
              <a:ext cx="933840" cy="70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Группа 7"/>
          <p:cNvGrpSpPr/>
          <p:nvPr/>
        </p:nvGrpSpPr>
        <p:grpSpPr>
          <a:xfrm>
            <a:off x="49680" y="3493080"/>
            <a:ext cx="3729600" cy="3323160"/>
            <a:chOff x="49680" y="3493080"/>
            <a:chExt cx="3729600" cy="3323160"/>
          </a:xfrm>
        </p:grpSpPr>
        <p:pic>
          <p:nvPicPr>
            <p:cNvPr id="107" name="Рисунок 8" descr="butterflies-bflies_040.png"/>
            <p:cNvPicPr/>
            <p:nvPr/>
          </p:nvPicPr>
          <p:blipFill>
            <a:blip r:embed="rId4"/>
            <a:stretch/>
          </p:blipFill>
          <p:spPr>
            <a:xfrm flipH="1" rot="18646800">
              <a:off x="250200" y="3933360"/>
              <a:ext cx="1779480" cy="134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Рисунок 9" descr="butterflies-bflies_040.png"/>
            <p:cNvPicPr/>
            <p:nvPr/>
          </p:nvPicPr>
          <p:blipFill>
            <a:blip r:embed="rId5"/>
            <a:stretch/>
          </p:blipFill>
          <p:spPr>
            <a:xfrm flipH="1" rot="18534000">
              <a:off x="1649880" y="5043240"/>
              <a:ext cx="125100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Рисунок 10" descr="butterflies-bflies_040.png"/>
            <p:cNvPicPr/>
            <p:nvPr/>
          </p:nvPicPr>
          <p:blipFill>
            <a:blip r:embed="rId6"/>
            <a:stretch/>
          </p:blipFill>
          <p:spPr>
            <a:xfrm flipH="1" rot="18334200">
              <a:off x="2753640" y="5877720"/>
              <a:ext cx="933840" cy="705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8760" y="642960"/>
            <a:ext cx="8229600" cy="56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редметом данного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является симметрия как  одна из математических основ законов красоты, взаимосвязи науки математики с окружающими нас живыми и неживыми объектами.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Акт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проблемы заключена в том, чтобы показать, что красота является внешним признаком симметрии и, прежде всего, имеет математическую основу.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Цель работы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- на примерах найти и показать симметрию как основу красоты в природе, технике, архитектуре и искусств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12" name="Группа 5"/>
          <p:cNvGrpSpPr/>
          <p:nvPr/>
        </p:nvGrpSpPr>
        <p:grpSpPr>
          <a:xfrm>
            <a:off x="5374080" y="3492720"/>
            <a:ext cx="3730320" cy="3323160"/>
            <a:chOff x="5374080" y="3492720"/>
            <a:chExt cx="3730320" cy="3323160"/>
          </a:xfrm>
        </p:grpSpPr>
        <p:pic>
          <p:nvPicPr>
            <p:cNvPr id="113" name="Рисунок 6" descr="butterflies-bflies_040.png"/>
            <p:cNvPicPr/>
            <p:nvPr/>
          </p:nvPicPr>
          <p:blipFill>
            <a:blip r:embed="rId1"/>
            <a:stretch/>
          </p:blipFill>
          <p:spPr>
            <a:xfrm rot="2953200">
              <a:off x="7123680" y="3933000"/>
              <a:ext cx="177948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Рисунок 7" descr="butterflies-bflies_040.png"/>
            <p:cNvPicPr/>
            <p:nvPr/>
          </p:nvPicPr>
          <p:blipFill>
            <a:blip r:embed="rId2"/>
            <a:stretch/>
          </p:blipFill>
          <p:spPr>
            <a:xfrm rot="3066000">
              <a:off x="6252480" y="5043240"/>
              <a:ext cx="1250640" cy="94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Рисунок 8" descr="butterflies-bflies_040.png"/>
            <p:cNvPicPr/>
            <p:nvPr/>
          </p:nvPicPr>
          <p:blipFill>
            <a:blip r:embed="rId3"/>
            <a:stretch/>
          </p:blipFill>
          <p:spPr>
            <a:xfrm rot="3265200">
              <a:off x="5465880" y="5877360"/>
              <a:ext cx="933840" cy="706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642888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2800" spc="-1" strike="noStrike" u="sng">
                <a:solidFill>
                  <a:srgbClr val="00b050"/>
                </a:solidFill>
                <a:uFillTx/>
                <a:latin typeface="Calibri"/>
              </a:rPr>
              <a:t>Задачи проекта:</a:t>
            </a:r>
            <a:br>
              <a:rPr sz="2800"/>
            </a:b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собрать информацию по рассматриваемой теме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выделить симметрию как математическую основу законов красоты в искусстве (архитектура, живопись, скульптура, природа)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найти математические мотивы в филологии;</a:t>
            </a:r>
            <a:br>
              <a:rPr sz="2800"/>
            </a:b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изучить и выделить основные направления применения симметрии, как основы красоты в творчестве человека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17" name="Группа 6"/>
          <p:cNvGrpSpPr/>
          <p:nvPr/>
        </p:nvGrpSpPr>
        <p:grpSpPr>
          <a:xfrm>
            <a:off x="5154840" y="-223560"/>
            <a:ext cx="3729600" cy="3321720"/>
            <a:chOff x="5154840" y="-223560"/>
            <a:chExt cx="3729600" cy="3321720"/>
          </a:xfrm>
        </p:grpSpPr>
        <p:pic>
          <p:nvPicPr>
            <p:cNvPr id="118" name="Рисунок 7" descr="butterflies-bflies_040.png"/>
            <p:cNvPicPr/>
            <p:nvPr/>
          </p:nvPicPr>
          <p:blipFill>
            <a:blip r:embed="rId1"/>
            <a:stretch/>
          </p:blipFill>
          <p:spPr>
            <a:xfrm flipH="1" rot="18646800">
              <a:off x="5355720" y="216000"/>
              <a:ext cx="177876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Рисунок 8" descr="butterflies-bflies_040.png"/>
            <p:cNvPicPr/>
            <p:nvPr/>
          </p:nvPicPr>
          <p:blipFill>
            <a:blip r:embed="rId2"/>
            <a:stretch/>
          </p:blipFill>
          <p:spPr>
            <a:xfrm flipH="1" rot="18534600">
              <a:off x="6756120" y="1325160"/>
              <a:ext cx="124956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Рисунок 9" descr="butterflies-bflies_040.png"/>
            <p:cNvPicPr/>
            <p:nvPr/>
          </p:nvPicPr>
          <p:blipFill>
            <a:blip r:embed="rId3"/>
            <a:stretch/>
          </p:blipFill>
          <p:spPr>
            <a:xfrm flipH="1" rot="18334800">
              <a:off x="7858800" y="2159640"/>
              <a:ext cx="933120" cy="706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0000"/>
                </a:solidFill>
                <a:latin typeface="Calibri"/>
              </a:rPr>
              <a:t>Содержа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934640"/>
            <a:ext cx="8929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Constantia"/>
              </a:rPr>
              <a:t>Что такое симметрия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Симметрия в природ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Симметрия в архитектур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Симметрия в техни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Симметрия в искусств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Симметрия в литератур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Constantia"/>
              </a:rPr>
              <a:t>Почему природа создаёт симметрию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Constantia"/>
              </a:rPr>
              <a:t>Зачем человеку надо знать о симметрии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Constantia"/>
              </a:rPr>
              <a:t>Во всём ли проявляется симметрия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Constantia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3" name="Группа 6"/>
          <p:cNvGrpSpPr/>
          <p:nvPr/>
        </p:nvGrpSpPr>
        <p:grpSpPr>
          <a:xfrm>
            <a:off x="4725720" y="1491120"/>
            <a:ext cx="3729600" cy="3321720"/>
            <a:chOff x="4725720" y="1491120"/>
            <a:chExt cx="3729600" cy="3321720"/>
          </a:xfrm>
        </p:grpSpPr>
        <p:pic>
          <p:nvPicPr>
            <p:cNvPr id="124" name="Рисунок 7" descr="butterflies-bflies_040.png"/>
            <p:cNvPicPr/>
            <p:nvPr/>
          </p:nvPicPr>
          <p:blipFill>
            <a:blip r:embed="rId1"/>
            <a:stretch/>
          </p:blipFill>
          <p:spPr>
            <a:xfrm flipH="1" rot="18646800">
              <a:off x="4926600" y="1931040"/>
              <a:ext cx="1778760" cy="13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Рисунок 8" descr="butterflies-bflies_040.png"/>
            <p:cNvPicPr/>
            <p:nvPr/>
          </p:nvPicPr>
          <p:blipFill>
            <a:blip r:embed="rId2"/>
            <a:stretch/>
          </p:blipFill>
          <p:spPr>
            <a:xfrm flipH="1" rot="18534600">
              <a:off x="6327360" y="3039840"/>
              <a:ext cx="124956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Рисунок 9" descr="butterflies-bflies_040.png"/>
            <p:cNvPicPr/>
            <p:nvPr/>
          </p:nvPicPr>
          <p:blipFill>
            <a:blip r:embed="rId3"/>
            <a:stretch/>
          </p:blipFill>
          <p:spPr>
            <a:xfrm flipH="1" rot="18334800">
              <a:off x="7429680" y="3874320"/>
              <a:ext cx="933120" cy="706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640" y="836280"/>
            <a:ext cx="8436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4300" spc="-1" strike="noStrike">
                <a:solidFill>
                  <a:srgbClr val="ff0000"/>
                </a:solidFill>
                <a:latin typeface="Times New Roman"/>
              </a:rPr>
              <a:t>Что же такое симметрия?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9280" y="2060280"/>
            <a:ext cx="8964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Times New Roman"/>
              </a:rPr>
              <a:t>     </a:t>
            </a: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«Симметрия» </a:t>
            </a:r>
            <a:r>
              <a:rPr b="0" lang="ru-RU" sz="6000" spc="-1" strike="noStrike">
                <a:solidFill>
                  <a:srgbClr val="0000ff"/>
                </a:solidFill>
                <a:latin typeface="Times New Roman"/>
              </a:rPr>
              <a:t>–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слово греческого происхождения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Означает соразмерность, наличие        определённого порядка, закономерности в расположении часте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29" name="Группа 5"/>
          <p:cNvGrpSpPr/>
          <p:nvPr/>
        </p:nvGrpSpPr>
        <p:grpSpPr>
          <a:xfrm>
            <a:off x="16920" y="83880"/>
            <a:ext cx="2941560" cy="2619360"/>
            <a:chOff x="16920" y="83880"/>
            <a:chExt cx="2941560" cy="2619360"/>
          </a:xfrm>
        </p:grpSpPr>
        <p:pic>
          <p:nvPicPr>
            <p:cNvPr id="130" name="Рисунок 6" descr="butterflies-bflies_040.png"/>
            <p:cNvPicPr/>
            <p:nvPr/>
          </p:nvPicPr>
          <p:blipFill>
            <a:blip r:embed="rId1"/>
            <a:stretch/>
          </p:blipFill>
          <p:spPr>
            <a:xfrm rot="2953200">
              <a:off x="1397160" y="430560"/>
              <a:ext cx="1402560" cy="106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Рисунок 7" descr="butterflies-bflies_040.png"/>
            <p:cNvPicPr/>
            <p:nvPr/>
          </p:nvPicPr>
          <p:blipFill>
            <a:blip r:embed="rId2"/>
            <a:stretch/>
          </p:blipFill>
          <p:spPr>
            <a:xfrm rot="3066000">
              <a:off x="709560" y="1305360"/>
              <a:ext cx="985320" cy="74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Рисунок 8" descr="butterflies-bflies_040.png"/>
            <p:cNvPicPr/>
            <p:nvPr/>
          </p:nvPicPr>
          <p:blipFill>
            <a:blip r:embed="rId3"/>
            <a:stretch/>
          </p:blipFill>
          <p:spPr>
            <a:xfrm rot="3265200">
              <a:off x="89280" y="1963440"/>
              <a:ext cx="735840" cy="556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Группа 17"/>
          <p:cNvGrpSpPr/>
          <p:nvPr/>
        </p:nvGrpSpPr>
        <p:grpSpPr>
          <a:xfrm>
            <a:off x="5374080" y="3492720"/>
            <a:ext cx="3730320" cy="3323160"/>
            <a:chOff x="5374080" y="3492720"/>
            <a:chExt cx="3730320" cy="3323160"/>
          </a:xfrm>
        </p:grpSpPr>
        <p:pic>
          <p:nvPicPr>
            <p:cNvPr id="134" name="Рисунок 18" descr="butterflies-bflies_040.png"/>
            <p:cNvPicPr/>
            <p:nvPr/>
          </p:nvPicPr>
          <p:blipFill>
            <a:blip r:embed="rId1"/>
            <a:stretch/>
          </p:blipFill>
          <p:spPr>
            <a:xfrm rot="2953200">
              <a:off x="7123680" y="3933000"/>
              <a:ext cx="1779480" cy="13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Рисунок 19" descr="butterflies-bflies_040.png"/>
            <p:cNvPicPr/>
            <p:nvPr/>
          </p:nvPicPr>
          <p:blipFill>
            <a:blip r:embed="rId2"/>
            <a:stretch/>
          </p:blipFill>
          <p:spPr>
            <a:xfrm rot="3066000">
              <a:off x="6252480" y="5043240"/>
              <a:ext cx="1250640" cy="94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Рисунок 20" descr="butterflies-bflies_040.png"/>
            <p:cNvPicPr/>
            <p:nvPr/>
          </p:nvPicPr>
          <p:blipFill>
            <a:blip r:embed="rId3"/>
            <a:stretch/>
          </p:blipFill>
          <p:spPr>
            <a:xfrm rot="3265200">
              <a:off x="5465880" y="5877360"/>
              <a:ext cx="933840" cy="70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8" name="Picture 15" descr=""/>
          <p:cNvPicPr/>
          <p:nvPr/>
        </p:nvPicPr>
        <p:blipFill>
          <a:blip r:embed="rId4"/>
          <a:stretch/>
        </p:blipFill>
        <p:spPr>
          <a:xfrm>
            <a:off x="1258920" y="620640"/>
            <a:ext cx="6381720" cy="5715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"/>
          <p:cNvPicPr/>
          <p:nvPr/>
        </p:nvPicPr>
        <p:blipFill>
          <a:blip r:embed="rId5"/>
          <a:stretch/>
        </p:blipFill>
        <p:spPr>
          <a:xfrm>
            <a:off x="1258920" y="620640"/>
            <a:ext cx="6408720" cy="568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"/>
          <p:cNvPicPr/>
          <p:nvPr/>
        </p:nvPicPr>
        <p:blipFill>
          <a:blip r:embed="rId6"/>
          <a:stretch/>
        </p:blipFill>
        <p:spPr>
          <a:xfrm>
            <a:off x="1258920" y="620640"/>
            <a:ext cx="6434280" cy="568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"/>
          <p:cNvPicPr/>
          <p:nvPr/>
        </p:nvPicPr>
        <p:blipFill>
          <a:blip r:embed="rId7"/>
          <a:stretch/>
        </p:blipFill>
        <p:spPr>
          <a:xfrm>
            <a:off x="1258920" y="1052640"/>
            <a:ext cx="6492960" cy="4897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"/>
          <p:cNvPicPr/>
          <p:nvPr/>
        </p:nvPicPr>
        <p:blipFill>
          <a:blip r:embed="rId8"/>
          <a:stretch/>
        </p:blipFill>
        <p:spPr>
          <a:xfrm>
            <a:off x="684360" y="90792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5000" spc="-1" strike="noStrike">
                <a:solidFill>
                  <a:srgbClr val="ff0000"/>
                </a:solidFill>
                <a:latin typeface="Calibri"/>
              </a:rPr>
              <a:t>Симметрия в природ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nstantia"/>
              </a:rPr>
              <a:t>       </a:t>
            </a:r>
            <a:r>
              <a:rPr b="0" lang="ru-RU" sz="4800" spc="-1" strike="noStrike">
                <a:solidFill>
                  <a:srgbClr val="0000ff"/>
                </a:solidFill>
                <a:latin typeface="Constantia"/>
              </a:rPr>
              <a:t>Всё живое в природе обладает свойством симметрии.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Constantia"/>
              </a:rPr>
              <a:t>       </a:t>
            </a:r>
            <a:r>
              <a:rPr b="0" lang="ru-RU" sz="4800" spc="-1" strike="noStrike">
                <a:solidFill>
                  <a:srgbClr val="0000ff"/>
                </a:solidFill>
                <a:latin typeface="Constantia"/>
              </a:rPr>
              <a:t>Симметрию можно увидеть среди цветов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Constantia"/>
              </a:rPr>
              <a:t>     </a:t>
            </a:r>
            <a:r>
              <a:rPr b="0" lang="ru-RU" sz="4800" spc="-1" strike="noStrike">
                <a:solidFill>
                  <a:srgbClr val="0000ff"/>
                </a:solidFill>
                <a:latin typeface="Constantia"/>
              </a:rPr>
              <a:t>и на листьях деревьев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Constantia"/>
              </a:rPr>
              <a:t>       </a:t>
            </a:r>
            <a:r>
              <a:rPr b="0" lang="ru-RU" sz="4800" spc="-1" strike="noStrike">
                <a:solidFill>
                  <a:srgbClr val="0000ff"/>
                </a:solidFill>
                <a:latin typeface="Constantia"/>
              </a:rPr>
              <a:t>Симметричны формы бабочки, жука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5" name="Picture 4" descr="i?id=22380373&amp;tov=5"/>
          <p:cNvPicPr/>
          <p:nvPr/>
        </p:nvPicPr>
        <p:blipFill>
          <a:blip r:embed="rId1"/>
          <a:stretch/>
        </p:blipFill>
        <p:spPr>
          <a:xfrm>
            <a:off x="6516720" y="4581360"/>
            <a:ext cx="2374920" cy="1943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i?id=36570234&amp;tov=7"/>
          <p:cNvPicPr/>
          <p:nvPr/>
        </p:nvPicPr>
        <p:blipFill>
          <a:blip r:embed="rId2"/>
          <a:stretch/>
        </p:blipFill>
        <p:spPr>
          <a:xfrm>
            <a:off x="179280" y="4508640"/>
            <a:ext cx="2376720" cy="2128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i?id=45191535&amp;tov=7"/>
          <p:cNvPicPr/>
          <p:nvPr/>
        </p:nvPicPr>
        <p:blipFill>
          <a:blip r:embed="rId3"/>
          <a:stretch/>
        </p:blipFill>
        <p:spPr>
          <a:xfrm>
            <a:off x="2844720" y="2637000"/>
            <a:ext cx="3527640" cy="23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?id=15871788&amp;tov=6"/>
          <p:cNvPicPr/>
          <p:nvPr/>
        </p:nvPicPr>
        <p:blipFill>
          <a:blip r:embed="rId4"/>
          <a:stretch/>
        </p:blipFill>
        <p:spPr>
          <a:xfrm>
            <a:off x="250920" y="836640"/>
            <a:ext cx="2376360" cy="2122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i?id=17896895&amp;tov=8"/>
          <p:cNvPicPr/>
          <p:nvPr/>
        </p:nvPicPr>
        <p:blipFill>
          <a:blip r:embed="rId5"/>
          <a:stretch/>
        </p:blipFill>
        <p:spPr>
          <a:xfrm>
            <a:off x="6588000" y="981000"/>
            <a:ext cx="2239920" cy="208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i="1" lang="ru-RU" sz="4500" spc="-1" strike="noStrike">
                <a:solidFill>
                  <a:srgbClr val="ff0000"/>
                </a:solidFill>
                <a:latin typeface="Calibri"/>
              </a:rPr>
              <a:t>К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ждая снежинка имеет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форму шестиугольника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nstantia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Picture 4" descr="f_1196939917"/>
          <p:cNvPicPr/>
          <p:nvPr/>
        </p:nvPicPr>
        <p:blipFill>
          <a:blip r:embed="rId1"/>
          <a:stretch/>
        </p:blipFill>
        <p:spPr>
          <a:xfrm>
            <a:off x="250920" y="198900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4572000" y="2276640"/>
            <a:ext cx="35989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аждая снежинк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          маленький  кристаллик замерзшей 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имметрия снежинок свидетельствует о том, что скорость присоединения молекул и роста ветвей в пределах одной снежинки должны быть всюду одинак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Группа 11"/>
          <p:cNvGrpSpPr/>
          <p:nvPr/>
        </p:nvGrpSpPr>
        <p:grpSpPr>
          <a:xfrm>
            <a:off x="-23040" y="360"/>
            <a:ext cx="9166320" cy="6856920"/>
            <a:chOff x="-23040" y="360"/>
            <a:chExt cx="9166320" cy="6856920"/>
          </a:xfrm>
        </p:grpSpPr>
        <p:pic>
          <p:nvPicPr>
            <p:cNvPr id="155" name="Рисунок 8" descr="butterflies-bflies_040.png"/>
            <p:cNvPicPr/>
            <p:nvPr/>
          </p:nvPicPr>
          <p:blipFill>
            <a:blip r:embed="rId2"/>
            <a:stretch/>
          </p:blipFill>
          <p:spPr>
            <a:xfrm rot="2953200">
              <a:off x="7163640" y="440280"/>
              <a:ext cx="1778400" cy="134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Рисунок 9" descr="butterflies-bflies_040.png"/>
            <p:cNvPicPr/>
            <p:nvPr/>
          </p:nvPicPr>
          <p:blipFill>
            <a:blip r:embed="rId3"/>
            <a:stretch/>
          </p:blipFill>
          <p:spPr>
            <a:xfrm rot="19517400">
              <a:off x="134640" y="310320"/>
              <a:ext cx="124992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Рисунок 10" descr="butterflies-bflies_040.png"/>
            <p:cNvPicPr/>
            <p:nvPr/>
          </p:nvPicPr>
          <p:blipFill>
            <a:blip r:embed="rId4"/>
            <a:stretch/>
          </p:blipFill>
          <p:spPr>
            <a:xfrm rot="3265200">
              <a:off x="8117640" y="5919480"/>
              <a:ext cx="933120" cy="705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3:15:38Z</dcterms:created>
  <dc:creator>1</dc:creator>
  <dc:description/>
  <dc:language>en-US</dc:language>
  <cp:lastModifiedBy>User1</cp:lastModifiedBy>
  <dcterms:modified xsi:type="dcterms:W3CDTF">2019-12-11T20:47:31Z</dcterms:modified>
  <cp:revision>95</cp:revision>
  <dc:subject/>
  <dc:title>Слайд 1</dc:title>
</cp:coreProperties>
</file>